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w-K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w-K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CCA4-7C2C-4B46-B98F-EE1A045FCCE7}" type="slidenum">
              <a:rPr b="0" lang="sw-K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BA5F-1921-45FF-A282-57A22448A988}" type="slidenum">
              <a:rPr b="0" lang="sw-K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A029-BC88-4501-A7A3-FEEC9B8B9947}" type="slidenum">
              <a:rPr b="0" lang="sw-K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FA1B-CF89-4E66-A85C-B4ECB0360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505A-D75C-42DA-99F0-085AF991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2507-CE29-432F-BF56-15D2A3704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33C7-9724-41D8-B253-43747E232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3D9C-F657-47C3-9789-CE6A898C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54F3-F795-42FB-9B70-6561E1F4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97B3-BFAD-4748-8417-EE75FCE5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092C-35CA-48AA-8BAC-E16E2099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0A18-A009-4686-80B6-61C4EB32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D3DF-A09F-4CC0-80AC-2BD42238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3A18-0EF7-426C-9F6F-B1AA607C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2966-3103-4D96-8577-6FF1B08E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w-K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w-K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07F4-9E5E-4ED5-A08A-2179E833D0C7}" type="slidenum">
              <a:rPr b="0" lang="sw-K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Wolmera%20woreda/Rob-Gebya%20Techfit%20(Wolmera).xls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Dairy%20projection.ppt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Questions_to_arrive_at_context_scores_-_alan%5B1%5Dbl.doc" TargetMode="External"/><Relationship Id="rId2" Type="http://schemas.openxmlformats.org/officeDocument/2006/relationships/hyperlink" Target="file:///Context%20attribute%20score.docx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5029200"/>
            <a:ext cx="9144000" cy="1828800"/>
          </a:xfrm>
          <a:prstGeom prst="rect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alibri"/>
              </a:rPr>
              <a:t>Dairy T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alibri"/>
              </a:rPr>
              <a:t>Holetta Research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alibri"/>
              </a:rPr>
              <a:t>28-29 May, 2012, A.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380520" y="7621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deada"/>
                </a:solidFill>
                <a:latin typeface="Calibri"/>
              </a:rPr>
              <a:t>Application of “Techfit” tool for prioritization of feed technologies for smallholder dairy production system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8534520" y="5486400"/>
            <a:ext cx="609480" cy="1371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"/>
          <p:cNvPicPr/>
          <p:nvPr/>
        </p:nvPicPr>
        <p:blipFill>
          <a:blip r:embed="rId3"/>
          <a:stretch/>
        </p:blipFill>
        <p:spPr>
          <a:xfrm>
            <a:off x="0" y="5486400"/>
            <a:ext cx="762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gular Pentagon 3"/>
          <p:cNvSpPr/>
          <p:nvPr/>
        </p:nvSpPr>
        <p:spPr>
          <a:xfrm>
            <a:off x="0" y="304920"/>
            <a:ext cx="4267080" cy="6095880"/>
          </a:xfrm>
          <a:prstGeom prst="pentagon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2800" spc="-1" strike="noStrike">
                <a:solidFill>
                  <a:srgbClr val="0000cc"/>
                </a:solidFill>
                <a:latin typeface="Calibri"/>
              </a:rPr>
              <a:t>Total lists of possible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2800" spc="-1" strike="noStrike">
                <a:solidFill>
                  <a:srgbClr val="0000cc"/>
                </a:solidFill>
                <a:latin typeface="Calibri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2800" spc="-1" strike="noStrike">
                <a:solidFill>
                  <a:srgbClr val="0000cc"/>
                </a:solidFill>
                <a:latin typeface="Calibri"/>
              </a:rPr>
              <a:t>3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Callout 4"/>
          <p:cNvSpPr/>
          <p:nvPr/>
        </p:nvSpPr>
        <p:spPr>
          <a:xfrm>
            <a:off x="5486400" y="2133720"/>
            <a:ext cx="3429000" cy="28191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w-KE" sz="2400" spc="-1" strike="noStrike">
                <a:solidFill>
                  <a:srgbClr val="0000cc"/>
                </a:solidFill>
                <a:latin typeface="Calibri"/>
              </a:rPr>
              <a:t>Technologies subjected to ranking for the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w-KE" sz="2400" spc="-1" strike="noStrike">
                <a:solidFill>
                  <a:srgbClr val="0000cc"/>
                </a:solidFill>
                <a:latin typeface="Calibri"/>
              </a:rPr>
              <a:t>=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w-KE" sz="24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ight Arrow 5"/>
          <p:cNvSpPr/>
          <p:nvPr/>
        </p:nvSpPr>
        <p:spPr>
          <a:xfrm>
            <a:off x="3962520" y="3124080"/>
            <a:ext cx="1600200" cy="10670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w-KE" sz="1600" spc="-1" strike="noStrike">
                <a:solidFill>
                  <a:srgbClr val="ffffff"/>
                </a:solidFill>
                <a:latin typeface="Calibri"/>
              </a:rPr>
              <a:t>Area con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6"/>
          <p:cNvSpPr/>
          <p:nvPr/>
        </p:nvSpPr>
        <p:spPr>
          <a:xfrm>
            <a:off x="3809880" y="228600"/>
            <a:ext cx="396252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echnology Fil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80880" y="1294920"/>
            <a:ext cx="8382240" cy="5334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3200" spc="-1" strike="noStrike">
                <a:solidFill>
                  <a:srgbClr val="000000"/>
                </a:solidFill>
                <a:latin typeface="Calibri"/>
              </a:rPr>
              <a:t>The selected technologies were then subjected to pre-filter based on the context attrib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ontext relevance X Impact potential sco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Total context sc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3200" spc="-1" strike="noStrike">
                <a:solidFill>
                  <a:srgbClr val="000000"/>
                </a:solidFill>
                <a:latin typeface="Calibri"/>
              </a:rPr>
              <a:t>Technologies with high total context scores were subjected to the main fil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ntext attribute scores given by farmers were entered into the TechFit Excel template corresponding to each of the pre-filtered technologies  and the technologies were ranked based on their total score (sum of context attribute X technology attribute scores for the five attributes)  </a:t>
            </a:r>
            <a:r>
              <a:rPr b="0" lang="sw-K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Find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04920" y="1066680"/>
            <a:ext cx="8610480" cy="5639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 to 8 top ranking technologies (based on total score) were identified for each of the villages under the two wore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d and labour requirements – major determinants for ranking the technolog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nologies with high context relevance, but which require more land and labour ranked lower – those w/c do not require land and labour highly favored by the ranking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w-KE" sz="2400" spc="-1" strike="noStrike">
                <a:solidFill>
                  <a:srgbClr val="000000"/>
                </a:solidFill>
                <a:latin typeface="Calibri"/>
              </a:rPr>
              <a:t>Rob-Gebya, Berfata, Jate, Mechela-Wer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Observations and Less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04920" y="914040"/>
            <a:ext cx="8534160" cy="5715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2800" spc="-1" strike="noStrike">
                <a:solidFill>
                  <a:srgbClr val="000000"/>
                </a:solidFill>
                <a:latin typeface="Calibri"/>
              </a:rPr>
              <a:t>Some farmers` indegionous practices that may need to be included in the lists of technologies – </a:t>
            </a:r>
            <a:r>
              <a:rPr b="0" lang="sw-KE" sz="2800" spc="-1" strike="noStrike">
                <a:solidFill>
                  <a:srgbClr val="ff0000"/>
                </a:solidFill>
                <a:latin typeface="Calibri"/>
              </a:rPr>
              <a:t>e.g. Re-threshing and mixing of different crop residues, use of oats grain and hull as an alternative to wheat br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2800" spc="-1" strike="noStrike">
                <a:solidFill>
                  <a:srgbClr val="000000"/>
                </a:solidFill>
                <a:latin typeface="Calibri"/>
              </a:rPr>
              <a:t>Farmers` contexts highly varied within a woreda and even a village – need for screening technologies according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results contrary to the ground reality emerged from the ranking process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e.g. Local brewery waste Vs native hay at Wucha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hallenges/Limi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80880" y="1600200"/>
            <a:ext cx="8305920" cy="4525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odology to generate the data required to do cost-benefit analysis on the short-listed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Suggestions for improv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04920" y="1142640"/>
            <a:ext cx="8610480" cy="5257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al attention should be given for the technology pre-filter process –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also inclusion of available indigenous practice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nologies may be clustered and ranked within their clusters than holistic ran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igh ranking technologies from each cluster may be subjected to further per-wise ranking by farmers for targeting intervention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7030a0"/>
                </a:solidFill>
                <a:latin typeface="Bradley Hand ITC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2057400" y="5029200"/>
            <a:ext cx="16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scan0020"/>
          <p:cNvPicPr/>
          <p:nvPr/>
        </p:nvPicPr>
        <p:blipFill>
          <a:blip r:embed="rId1"/>
          <a:stretch/>
        </p:blipFill>
        <p:spPr>
          <a:xfrm>
            <a:off x="7010280" y="1219320"/>
            <a:ext cx="213372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Presentation Outlin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ntroduction (TechFit backgroun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ethodology (The testing proc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Find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hallenges and lessons lear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uggestions for improvement of the t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Introduc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1599840"/>
            <a:ext cx="8686800" cy="4800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3200" spc="-1" strike="noStrike">
                <a:solidFill>
                  <a:srgbClr val="000000"/>
                </a:solidFill>
                <a:latin typeface="Calibri"/>
              </a:rPr>
              <a:t>Smallholder </a:t>
            </a:r>
            <a:r>
              <a:rPr b="0" lang="sw-KE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airy production</a:t>
            </a:r>
            <a:r>
              <a:rPr b="0" lang="sw-KE" sz="3200" spc="-1" strike="noStrike">
                <a:solidFill>
                  <a:srgbClr val="000000"/>
                </a:solidFill>
                <a:latin typeface="Calibri"/>
              </a:rPr>
              <a:t> – Dominant (&gt;95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2800" spc="-1" strike="noStrike">
                <a:solidFill>
                  <a:srgbClr val="000000"/>
                </a:solidFill>
                <a:latin typeface="Calibri"/>
              </a:rPr>
              <a:t>Feed among the major constra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2800" spc="-1" strike="noStrike">
                <a:solidFill>
                  <a:srgbClr val="000000"/>
                </a:solidFill>
                <a:latin typeface="Calibri"/>
              </a:rPr>
              <a:t>The need for interven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3200" spc="-1" strike="noStrike">
                <a:solidFill>
                  <a:srgbClr val="000000"/>
                </a:solidFill>
                <a:latin typeface="Calibri"/>
              </a:rPr>
              <a:t>Research efforts (NARS, ILR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2800" spc="-1" strike="noStrike">
                <a:solidFill>
                  <a:srgbClr val="000000"/>
                </a:solidFill>
                <a:latin typeface="Calibri"/>
              </a:rPr>
              <a:t>Basket of alternative feed technologies generated and recommen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2800" spc="-1" strike="noStrike">
                <a:solidFill>
                  <a:srgbClr val="000000"/>
                </a:solidFill>
                <a:latin typeface="Calibri"/>
              </a:rPr>
              <a:t>Limited applications by far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Introduc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1447920"/>
            <a:ext cx="8686800" cy="4952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stematic approach for prioritizing feed technologies for targeting interventions lack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3200" spc="-1" strike="noStrike">
                <a:solidFill>
                  <a:srgbClr val="000000"/>
                </a:solidFill>
                <a:latin typeface="Calibri"/>
              </a:rPr>
              <a:t>TechFit – a tool developed as remed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filter and prioritize best bet technologies from a basket of techno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olves combining scores of technology and context attributes to arrive at an overall score for how a technology is likely to fit a particular con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ch farmers’ context to technolo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295280"/>
          <a:ext cx="8229600" cy="4424400"/>
        </p:xfrm>
        <a:graphic>
          <a:graphicData uri="http://schemas.openxmlformats.org/drawingml/2006/table">
            <a:tbl>
              <a:tblPr/>
              <a:tblGrid>
                <a:gridCol w="2666880"/>
                <a:gridCol w="1067040"/>
                <a:gridCol w="3429000"/>
                <a:gridCol w="10666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ore for technology attribute (req`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ore for context attribute (availability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d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d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nowled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nowled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1" name="TextBox 5"/>
          <p:cNvSpPr/>
          <p:nvPr/>
        </p:nvSpPr>
        <p:spPr>
          <a:xfrm>
            <a:off x="457200" y="5943600"/>
            <a:ext cx="8077320" cy="6426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echnology demands land =&gt; low score for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farmers do not have or very small land holding =&gt; Low score for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test the application of the tool to rank and prioritize suitable feed technologies for smallholder dairy production in Wolmera and Wuchale woredas in the central highlands of Ethiop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04920" y="1294920"/>
            <a:ext cx="8610480" cy="4830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3200" spc="-1" strike="noStrike">
                <a:solidFill>
                  <a:srgbClr val="000000"/>
                </a:solidFill>
                <a:latin typeface="Calibri"/>
              </a:rPr>
              <a:t>Parties invol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2800" spc="-1" strike="noStrike">
                <a:solidFill>
                  <a:srgbClr val="000000"/>
                </a:solidFill>
                <a:latin typeface="Calibri"/>
              </a:rPr>
              <a:t>IL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2800" spc="-1" strike="noStrike">
                <a:solidFill>
                  <a:srgbClr val="000000"/>
                </a:solidFill>
                <a:latin typeface="Calibri"/>
              </a:rPr>
              <a:t>EIAR – Holetta (a team of 4 exper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2800" spc="-1" strike="noStrike">
                <a:solidFill>
                  <a:srgbClr val="000000"/>
                </a:solidFill>
                <a:latin typeface="Calibri"/>
              </a:rPr>
              <a:t>Woreda offices of agri – Livestock dev`t expe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2800" spc="-1" strike="noStrike">
                <a:solidFill>
                  <a:srgbClr val="000000"/>
                </a:solidFill>
                <a:latin typeface="Calibri"/>
              </a:rPr>
              <a:t>Village 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2800" spc="-1" strike="noStrike">
                <a:solidFill>
                  <a:srgbClr val="000000"/>
                </a:solidFill>
                <a:latin typeface="Calibri"/>
              </a:rPr>
              <a:t>Village chair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2800" spc="-1" strike="noStrike">
                <a:solidFill>
                  <a:srgbClr val="000000"/>
                </a:solidFill>
                <a:latin typeface="Calibri"/>
              </a:rPr>
              <a:t>Selected farm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4920" y="1447920"/>
            <a:ext cx="8610480" cy="4830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3200" spc="-1" strike="noStrike">
                <a:solidFill>
                  <a:srgbClr val="000000"/>
                </a:solidFill>
                <a:latin typeface="Calibri"/>
              </a:rPr>
              <a:t>Two villages with contrasting dairy production in each wored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2800" spc="-1" strike="noStrike">
                <a:solidFill>
                  <a:srgbClr val="000000"/>
                </a:solidFill>
                <a:latin typeface="Calibri"/>
              </a:rPr>
              <a:t>One village – market oriented dairy production using crossbred c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2800" spc="-1" strike="noStrike">
                <a:solidFill>
                  <a:srgbClr val="000000"/>
                </a:solidFill>
                <a:latin typeface="Calibri"/>
              </a:rPr>
              <a:t>The other village – no market oriented dairying (local cow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2800" spc="-1" strike="noStrike">
                <a:solidFill>
                  <a:srgbClr val="000000"/>
                </a:solidFill>
                <a:latin typeface="Calibri"/>
              </a:rPr>
              <a:t>12 – 14 farmers (2-5 women) selected in each kebele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ying land ownership, gender, age groups and affiliation to market oriented dairy productio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1600200"/>
            <a:ext cx="4572000" cy="4525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w-KE" sz="2400" spc="-1" strike="noStrike">
                <a:solidFill>
                  <a:srgbClr val="000000"/>
                </a:solidFill>
                <a:latin typeface="Calibri"/>
              </a:rPr>
              <a:t>FGD held using a </a:t>
            </a:r>
            <a:r>
              <a:rPr b="0" lang="sw-KE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kecklist</a:t>
            </a:r>
            <a:r>
              <a:rPr b="0" lang="sw-KE" sz="2400" spc="-1" strike="noStrike">
                <a:solidFill>
                  <a:srgbClr val="000000"/>
                </a:solidFill>
                <a:latin typeface="Calibri"/>
              </a:rPr>
              <a:t> to assess context of the farmers (availabilities of land, labour, credit, inputs and knowledge) that would enable possible interven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armers were encouraged to debate on each of the points and reach consensus for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coring with their justif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Content Placeholder 4" descr="C:\Users\Hp\AppData\Local\Microsoft\Windows\Temporary Internet Files\Content.Word\Survey (Early May, 2012) 081.jpg"/>
          <p:cNvPicPr/>
          <p:nvPr/>
        </p:nvPicPr>
        <p:blipFill>
          <a:blip r:embed="rId3"/>
          <a:stretch/>
        </p:blipFill>
        <p:spPr>
          <a:xfrm>
            <a:off x="4572000" y="1600200"/>
            <a:ext cx="4572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08:22:46Z</dcterms:created>
  <dc:creator>user</dc:creator>
  <dc:description/>
  <dc:language>en-US</dc:language>
  <cp:lastModifiedBy>PBallantyne</cp:lastModifiedBy>
  <dcterms:modified xsi:type="dcterms:W3CDTF">2012-05-30T07:00:49Z</dcterms:modified>
  <cp:revision>573</cp:revision>
  <dc:subject/>
  <dc:title>TERMINAL EVALUATION OF  PARTNERSHIP FOR FOOD SECURITY PHASE II (PFS-II) PROJECT, BATI DISTRICT, AMHARA NATIONAL REGIONAL STATE</dc:title>
</cp:coreProperties>
</file>